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6921-F86E-4C3A-BEB5-1043A968E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E0AE-DA45-4EB9-A59C-F89AC8D04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529A-555A-458B-9DC0-45F6F10CF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E6FA-265F-492A-8B65-229BB4728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86EE-5D23-424F-9148-1967B13AA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C316-5D21-43BA-B088-200CCE133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ni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rou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garnis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garnishme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egal procedure that withholds a portion of your earnings for the pay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limits of garnis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esser of 25% of your disposable income or 30 times the federal hourly minimum w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may be able to get a “Claim of Exemption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laim of exemption (only if you meet all of the following condit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family is living in the st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the money you earn is needed to provide necessit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bt was for a necessity (food, housing, medical care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rnishment has already been star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protection you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not be fired for any one garnish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 law is enfor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forced by the Secretary of Labor through the Wage and Hour Division of the U.S. Department of Lab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705348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assignment and wage attac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have legal force from a court, as wage garnishment do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a legal agreement between a lender and a deb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ts lender to collect part of debtor’s wages from an employer if debtor fails to make regular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loyer is not legally compelled to honor a wage assignment arrange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tach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have a job, a lender can get a court order to “attach” or seize some of your property to pay of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709164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ar 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eize car as soon as you defaul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’t commit a breach of the peace, i.e., use physical force or threats of fo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keep car or resell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 such as a stereo or luggage rack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uy back car by paying the full amount owed on it plus repossession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esponsibil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still pay the “deficiency balance”—the amount of debt remaining even after your creditor has sold your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08984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-earner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etition bankruptcy court to approve a plan to pay off your deb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t accepts plan if you can pay off, in three years, at least as much as your creditors would receive if you filed straight bankruptc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on all your loans stop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ors must contact the court, instead of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paid as agreed, at the end of three years your debts are considered paid in fu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costs range between 15% and 25% of amount ow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ometimes salvage your credi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avoid being harassed by your credi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 being required to draw up a budget and determine exactly how much you can actually afford to pay, you are forced into being realistic about your budg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lenders don’t react favorably when they see wage-earner bankruptcy on a credit report because some people use it to protect their property and pay less of their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0628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raight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ation on your credit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p to 10 y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may still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ild suppo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imon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lege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egal deb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-signer oblig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no longer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ail store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nk credit card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ecured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paid hospital or physician b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07220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y consumers don’t pa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ss of income (4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employment (2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ness (16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(divorce, death) (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extension (25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money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erialis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ed for instant gratif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fective goods and services (20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udulent use of credit (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ther (3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672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ning signs of troubl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don’t know how much you ow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often pay bills l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get a new loan to pay old loa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ay only the minimum balance due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spend more than 20% of your net income (after paying rent or mortgage) on debt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would have an immediate financial problem if you lost your jo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’re spending more than you earn, using your savings to pay for day-to-day expen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irst steps to take if you can’t pay your bill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ake another (close) look at your budge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im your expens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 realistic about what you can aff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ntact your credito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ell them why you can’t pay, that you intend to pay, and when/how much you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will be able to pa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ay be able to work out a new payment schedu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possible, continue to make the minimum payment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706284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43000" y="1143000"/>
          <a:ext cx="6858000" cy="40593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Insura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le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ing ou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145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 </a:t>
            </a:r>
            <a:r>
              <a:rPr b="0" i="1" lang="en-US" sz="2000" spc="-1" strike="noStrike">
                <a:solidFill>
                  <a:srgbClr val="30797b"/>
                </a:solidFill>
                <a:latin typeface="Verdana"/>
              </a:rPr>
              <a:t>(continued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43000" y="1143000"/>
          <a:ext cx="6858000" cy="43560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atio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 fa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 &amp; oi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&amp; toll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thing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tain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 item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123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redit counsel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ational Foundation for Consumer Credit (NFC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that offers information on financial and consumer topics. All cities 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populations of 50,000, and 1,500 locations nation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s your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set up a realistic personal budge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contact your creditors and make arrangements for reduced payments on your bil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plan for future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s, depending on location, may be available for no charge or reasonable fe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ed in yellow pages under “credit counseling” or call (800) 388-2227 for a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nearest you. Or you can visit NFCC online at nfcc.org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70696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olidating your deb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an conso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make only one payment, usually lower than the total amount of y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monthly debt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 to use only when combined with cred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own a home, consider your spending habits carefully before you take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 home equity loan. You could end up with a loan and large credit card bills if yo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on’t change your spending habi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ch out for “credit repair” compan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for-prof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nsolidation loa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dvertise they can erase a poor credit history (no one can do th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707220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ir debt collection pract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u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 you, in writing, of the amount of your debt, the name of the creditor, and an explanation of your right to dispute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ispute the debt, the debt collector must give you written proof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ay 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ct you at unusual times or pla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close what you owe to anyone but your attor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rass or threaten yo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false state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 false information about you to anyo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srepresent the legal status o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age in any kind of unfair practice, such as trying to collect an amount greater than you ow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0574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9-20T18:25:35Z</dcterms:modified>
  <cp:revision>33</cp:revision>
  <dc:subject/>
  <dc:title>lesson three</dc:title>
</cp:coreProperties>
</file>