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7E23-03BE-4D2D-A2DB-89FFEBA52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39A6-076B-434E-AD1B-C5C99E2C5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30DC-E959-43B1-BB9F-AB31A329E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ni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s and loa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car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ariables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gth of the lo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thly pay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finance char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to be repai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151040" y="6323400"/>
            <a:ext cx="155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3124080"/>
          <a:ext cx="7010640" cy="258156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371600"/>
                <a:gridCol w="1295640"/>
              </a:tblGrid>
              <a:tr h="768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g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loa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monthly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finance charg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 be repai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58.1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69.9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25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6.6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78.9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9.55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82.0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56"/>
          <p:cNvSpPr/>
          <p:nvPr/>
        </p:nvSpPr>
        <p:spPr>
          <a:xfrm>
            <a:off x="990720" y="2743200"/>
            <a:ext cx="7086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example of how loans can vary: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rrowing $8,000 at different rates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to calculate the total cost of a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7155000" y="6323400"/>
            <a:ext cx="154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total cost of a loan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of the loan x APR x number of years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0,000 x 0.10 x 5 years = $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5,000 + $10,000 = $1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amount of monthly paymen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to be paid divided by number of months of the loan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5,000 / 60 = $250 per month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 These formulas produce estimates that are slightly higher than your actual costs and payments,      because they do not account for the reduction of interest payments as you repay the loa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Truth in Lending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he Truth in Lending Act requires lender to inform borrower of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charges are included in 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finance charge, in doll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ment schedu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amount of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sales pri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e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ate 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curity intere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 char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13880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auto insurance coverag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liability (40–5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dily injury cover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perty-damage coverage (e.g.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 another person’s ca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llision (up to 3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the physical damage to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r car as a result of a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imited by deducti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mprehensive (about 12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damage caused by vandalism, hailstorms, floods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ft, etc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medical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vers medical payments for driver and passengers injured i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ninsured motori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imburses you for bodily injury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 accidents caused by uninsured dri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wing and labo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rental reimbursem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a specific amount per day to rent a car while yours is being fix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152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insurance rates are s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ersonal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x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rital statu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ersonal habits (e.g., smok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ype and frequency of vehicle use (e.g., commut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geographic location (often classified by zip cod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ural” usually lowers rates, “urban” usually raises rat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riving recor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ccident with death, bodily injury, or property damage in excess of $400 may trigger surcharge on premium for 3 ye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and kind of moving violations (and total of associated points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of years insured with the comp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vehicle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amage, repair, and theft record of type and model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095960" y="6323400"/>
            <a:ext cx="1616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eize car as soon as you defau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’t commit a breach of the peace, e.g., use physical force or threats of fo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keep car or resell 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ch as a stereo or luggage rac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uy back car by paying the full amount owed on it plus repossession expen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legal responsibil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t pay the “deficiency balance”—the amount of debt remaining even after your credit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old your c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110720" y="6323400"/>
            <a:ext cx="1601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leas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maller initial outlay than down payment when buying on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onthly lease payments may be less than monthly finance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ease agreement provides detailed records for business purpos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ftentimes, all service charges related to maintenance are included in lease, so there is no additional outlay of money for regular mainten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o ownership interest in the vehic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ust meet requirements similar to applying for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dditional costs occur (such as for extra mileage, certain repairs, ending lease early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cussion of leasing vs. buy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ust decide which option makes the most sense for your situatio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o you have cash available for a down pay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of a monthly payment can you affor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long do you plan to keep the car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110000" y="6323400"/>
            <a:ext cx="159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9"/>
          <p:cNvSpPr/>
          <p:nvPr/>
        </p:nvSpPr>
        <p:spPr>
          <a:xfrm>
            <a:off x="713736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sts of owning and operat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wnership (fixed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preciation (based on purchase pric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terest on loan (if buying on credit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gistration fee, license, tax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perating (variable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Gaso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il and other flui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ir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intenance and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rking and toll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much can you afford?(the 20-10 rule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ver borrow more than 20% of your year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earn $400 a month after taxes, then your net income in one year is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2 x $400 = $4,8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lculate 20% of your annual net income to find your safe debt load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,800 x 20% = $96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, you should never have more than $960 of debt outstan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debt (i.e., mortgage payments) should not be counted as part of the 2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onthly payments shouldn’t exceed 10% of your month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r take-home pay is $400 a month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00 x 10% = $4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total monthly debt payments shouldn’t total more than $40 per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payments (i.e., mortgage payments) should not be counted as part of the 1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14132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umer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to spend your mone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really need this item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it worth the time I spend making the money to buy i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there a better use for my money right now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on the right purchas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want (low, medium, or high)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ne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types of services and repairs does the dealer offe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wait until there is a sale on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buy a new or a used ca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I buy a used car, should I buy it from a dealer or from a private part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choose a car with a well-known name even if it costs mor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know anyone who owns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e the warranty and the service contracts on the car comparable with warranties and service contracts on similar car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do consumer magazines say about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127640" y="6323400"/>
            <a:ext cx="1581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used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how much you can afford to spen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which car models and options interest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the reliability of the model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re the nearest repair facility is that works on the type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ther parts are readily available for the type of car you want. Find rec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ces in used-car “blue books” in the library, on the Internet, in newspaper ad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sumer magazines,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p for financ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 in the costs of the loan and the cost of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now how to read a “Buyer’s Guide” stick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 you shop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the reputation of 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warranty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service contract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131240" y="6323400"/>
            <a:ext cx="159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ources of used car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134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new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vide quality used vehicles; service department available; higher prices than other sourc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sed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pecialize in previously owned vehicles; limited warranty (if any); vehicles may be in poor condi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rivate parti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y be a good buy if vehicle was well maintained; few consumer protection regulations apply to private party sa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ther sourc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uch as auctions or sales by government agencies, auto rental companies, and on the Internet; most of these vehicles have been driven many mi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new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ich car model and specific 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Find out the invoice price and the true cost to the dealer of the model and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how much you are willing to pay the dealer above the invoice pri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ke your offer to as many dealers as possib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l sales prices with other dealers and buying servi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ncing costs from various sour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you already have a car, find out its value independent of the dealer’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ade-in offer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y to sell your old car yourself (dealers usually give better deals without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 trade-in)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ether you need an optional service contract or credit insuran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157520" y="6323400"/>
            <a:ext cx="1570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rant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-is (no warranty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 expressed or implied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buy a car and have problems with it, you must pay for any repairs yourself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states do not permit “as-is” sales on used ca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mplied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merchantability—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product will do what it is design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fitness for a particular purpose—a product will do what the seller promises it will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ways in effect unless the product is sold as-is or the seller says in writing that there is no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aler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fered and specifically written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s and conditions can vary great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ful to compare warranty ter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 similar cars or negotiate warranty cover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nexpired manufacturer’s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ufacturer’s warranty can sometimes be transferred to the new owner. There may be a fee for the transfer proces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120080" y="6323400"/>
            <a:ext cx="159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rvice contracts (also called “extended warranties”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deciding to buy a service contract, find out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ich repairs the contract co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warranty already covers the same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vehicle is likely to need repairs and, if so, the potential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st of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deductible and, if so, what it i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repairs and service can be performed at locations other than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t the dealership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contract covers incidental expenses such as tow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cancellation or refund policy and, if so, 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dealer or company offering the service is reputa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you can purchase the service contract lat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112880" y="6323400"/>
            <a:ext cx="1595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9-04T23:44:54Z</dcterms:modified>
  <cp:revision>73</cp:revision>
  <dc:subject/>
  <dc:title>lesson three</dc:title>
</cp:coreProperties>
</file>