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move the slid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25FAA-B084-4015-9076-777A2F1586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6686A-E027-4E77-B735-38A65E0F11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E5294-CCA3-45C7-A06D-1A8B12D716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25DC5-BD26-489B-807D-FCDABF9603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DBBFF-E473-44E5-BA66-F763E705AD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7139D-0881-47FA-8A0D-2C99C2BC18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5"/>
          <p:cNvSpPr/>
          <p:nvPr/>
        </p:nvSpPr>
        <p:spPr>
          <a:xfrm flipH="1">
            <a:off x="304560" y="2971800"/>
            <a:ext cx="80010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7642080" y="299520"/>
            <a:ext cx="7732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3079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797b"/>
                </a:solidFill>
                <a:latin typeface="Times New Roman"/>
              </a:rPr>
              <a:t>Te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2"/>
          <p:cNvSpPr/>
          <p:nvPr/>
        </p:nvSpPr>
        <p:spPr>
          <a:xfrm>
            <a:off x="7678440" y="299880"/>
            <a:ext cx="70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797b"/>
                </a:solidFill>
                <a:latin typeface="Verdana"/>
              </a:rPr>
              <a:t>Teens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797b"/>
                </a:solidFill>
                <a:latin typeface="Verdana"/>
              </a:rPr>
              <a:t>lesson thirteen</a:t>
            </a:r>
            <a:endParaRPr b="0" lang="en-US" sz="4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2057400" y="3124080"/>
            <a:ext cx="6400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 troubl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sentation slid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8" descr="Picture 1"/>
          <p:cNvPicPr/>
          <p:nvPr/>
        </p:nvPicPr>
        <p:blipFill>
          <a:blip r:embed="rId1"/>
          <a:stretch/>
        </p:blipFill>
        <p:spPr>
          <a:xfrm>
            <a:off x="7662960" y="3530520"/>
            <a:ext cx="642960" cy="6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age garnishmen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0773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is garnishment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legal procedure that withholds a portion of your earnings for the paymen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f deb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he limits of garnishm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lesser of 25% of your disposable income or 30 times the federal hourly minimum wag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may be able to get a “Claim of Exemption.”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laim of exemption (only if you meet all of the following condition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r family is living in the stat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l the money you earn is needed to provide necessiti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bt was for a necessity (food, housing, medical care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arnishment has already been start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protection you hav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cannot be fired for any one garnishmen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how the law is enforc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forced by the Secretary of Labor through the Wage and Hour Division of the U.S. Department of Labo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6970320" y="6323400"/>
            <a:ext cx="1726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3-H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age assignment and wage attachmen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ssign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oes not have legal force from a court, as wage garnishment do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t is a legal agreement between a lender and a debtor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ermits lender to collect part of debtor’s wages from an employer if debtor fails to make regular payment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mployer is not legally compelled to honor a wage assignment arrangemen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ttach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you don’t have a job, a lender can get a court order to “attach” or seize some of your property to pay off the deb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7008480" y="6323400"/>
            <a:ext cx="1683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3-I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ar repossession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rights of credito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 seize car as soon as you defaul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’t commit a breach of the peace, i.e., use physical force or threats of forc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 keep car or resell i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y not keep or sell any personal property in car (not including improvements such as a stereo or luggage rack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your righ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 buy back car by paying the full amount owed on it plus repossession expens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your responsibiliti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ust still pay the “deficiency balance”—the amount of debt remaining even after your creditor has sold your car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7012440" y="6323400"/>
            <a:ext cx="1677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3-J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age-earner bankruptcy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how it work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petition bankruptcy court to approve a plan to pay off your debt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urt accepts plan if you can pay off, in three years, at least as much as your creditors would receive if you filed straight bankruptc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 on all your loans stop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ditors must contact the court, instead of you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paid as agreed, at the end of three years your debts are considered paid in full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r costs range between 15% and 25% of amount ow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benefi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n sometimes salvage your credi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can avoid being harassed by your creditor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y being required to draw up a budget and determine exactly how much you can actually afford to pay, you are forced into being realistic about your budge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isadvantag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me lenders don’t react favorably when they see wage-earner bankruptcy on a credit report because some people use it to protect their property and pay less of their deb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6994800" y="6323400"/>
            <a:ext cx="1715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3-K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traight bankruptcy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uration on your credit recor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p to 10 yea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what you may still ow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ax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hild suppor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limon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llege loa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n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llegal deb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-signer obliga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what you no longer ow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tail store charg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ank credit card charg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nsecured loa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npaid hospital or physician bill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7005600" y="6323400"/>
            <a:ext cx="1703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3-L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hy consumers don’t pay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loss of income (48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nemployment (24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llness (16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ther (divorce, death) (8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overextension (25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oor money manage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mergenci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terialis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eed for instant gratific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efective goods and services (20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raudulent use of credit (4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other (3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6994800" y="6323400"/>
            <a:ext cx="1718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3-A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arning signs of trouble 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don’t know how much you ow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often pay bills lat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get a new loan to pay old loan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pay only the minimum balance due each month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spend more than 20% of your net income (after paying rent or mortgage) on debt maintenanc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would have an immediate financial problem if you lost your job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’re spending more than you earn, using your savings to pay for day-to-day expens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6997320" y="6323400"/>
            <a:ext cx="1715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3-B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first steps to take if you can’t pay your bill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take another (close) look at your budge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rim your expenses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Be realistic about what you can afford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contact your credito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ell them why you can’t pay, that you intend to pay, and when/how much you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   will be able to pay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You may be able to work out a new payment schedule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f possible, continue to make the minimum payments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6985080" y="6323400"/>
            <a:ext cx="1712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3-C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a close look at your budge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6914520" y="6323400"/>
            <a:ext cx="1793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3-Da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143000" y="1143000"/>
          <a:ext cx="6858000" cy="4059360"/>
        </p:xfrm>
        <a:graphic>
          <a:graphicData uri="http://schemas.openxmlformats.org/drawingml/2006/table">
            <a:tbl>
              <a:tblPr/>
              <a:tblGrid>
                <a:gridCol w="1714680"/>
                <a:gridCol w="1714320"/>
                <a:gridCol w="1714680"/>
                <a:gridCol w="1714320"/>
              </a:tblGrid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lanned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ctual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fferenc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89800">
                <a:tc gridSpan="4"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com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ob #1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ob #2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the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 gridSpan="4"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ixed expense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nt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r Insuranc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r payment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24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the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the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 gridSpan="4"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exible expense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aving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ating out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a close look at your budget </a:t>
            </a:r>
            <a:r>
              <a:rPr b="0" i="1" lang="en-US" sz="2000" spc="-1" strike="noStrike">
                <a:solidFill>
                  <a:srgbClr val="30797b"/>
                </a:solidFill>
                <a:latin typeface="Verdana"/>
              </a:rPr>
              <a:t>(continued)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6897240" y="6323400"/>
            <a:ext cx="1796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3-Db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143000" y="1143000"/>
          <a:ext cx="6858000" cy="4356000"/>
        </p:xfrm>
        <a:graphic>
          <a:graphicData uri="http://schemas.openxmlformats.org/drawingml/2006/table">
            <a:tbl>
              <a:tblPr/>
              <a:tblGrid>
                <a:gridCol w="1714680"/>
                <a:gridCol w="1714320"/>
                <a:gridCol w="1714680"/>
                <a:gridCol w="1714320"/>
              </a:tblGrid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lanned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ctual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fferenc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9196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com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ansportation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us far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as &amp; oil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rking &amp; toll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pair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othing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ntertainment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rsonal item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the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the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the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 expense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 incom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redit counseling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91440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National Foundation for Credit Counseling (NFCC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rogram that offers information on financial and consumer topics. All cities with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 populations of 50,000, and 1,500 locations nationwid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views your incom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elps you set up a realistic personal budge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y contact your creditors and make arrangements for reduced payments on your bill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elps you plan for future expens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rvices, depending on location, may be available for no charge or reasonable fe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sted in yellow pages under “credit counseling” or call (800) 388-2227 for a loc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 nearest you. Or you can visit NFCC online at nfcc.org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6992280" y="6323400"/>
            <a:ext cx="1703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3-E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onsolidating your debt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loan consolid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You make only one payment, usually lower than the total amount of you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monthly debt payment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est to use only when combined with credit counseling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you own a home, consider your spending habits carefully before you take o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a home equity loan. You could end up with a loan and large credit card bills if you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don’t change your spending habit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watch out for “credit repair” compani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ffer for-profit counseling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ffer debt consolidation loan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ffer debt counseling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ome advertise they can erase a poor credit history (no one can do this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7008840" y="6323400"/>
            <a:ext cx="1701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3-F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fair debt collection practice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 debt collector mus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form you, in writing, of the amount of your debt, the name of the creditor, and an explanation of your right to dispute the deb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you dispute the debt, the debt collector must give you written proof of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deb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 debt collector may no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ntact you at unusual times or plac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isclose what you owe to anyone but your attorney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arass or threaten you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 false statement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Give false information about you to anyon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isrepresent the legal status of the deb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ngage in any kind of unfair practice, such as trying to collect an amount greater than you ow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6974280" y="6323400"/>
            <a:ext cx="1721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3-G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5:31:30Z</dcterms:created>
  <dc:creator>Derek Oyen</dc:creator>
  <dc:description/>
  <dc:language>en-US</dc:language>
  <cp:lastModifiedBy>Anne Braggins</cp:lastModifiedBy>
  <dcterms:modified xsi:type="dcterms:W3CDTF">2019-11-14T20:23:16Z</dcterms:modified>
  <cp:revision>33</cp:revision>
  <dc:subject/>
  <dc:title>lesson three</dc:title>
</cp:coreProperties>
</file>